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8AFA-25F1-475B-864D-824DBA975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A5F7-1FB5-4B64-8930-FE8C746B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E138-0B82-4B5E-B22B-6FED973BE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0A9B-1D0C-49E4-B939-6A0CCBFBE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3966-B1BF-43A6-B2E5-6DD16CFD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4A0A-FD1D-4742-B79F-CABAFC8E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36D9-983A-41E4-B6B5-8A0CA7F7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2817-E2BA-4DDE-A2BC-1E30DD8F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5A64-7865-42BA-994B-27B0C5D6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DA7F-2338-4604-B4BE-7F205045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6301-D6CF-4C7F-ACB9-910BBEB3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C76C-02CC-4CE6-8B57-F5A051A6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8648-52D4-485E-BA5C-038C9A4B0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livia</cp:lastModifiedBy>
  <dcterms:modified xsi:type="dcterms:W3CDTF">2010-01-18T17:57:13Z</dcterms:modified>
  <cp:revision>15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